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9B8-FAAC-48DD-856F-3328FA00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04F-B2EA-4B4D-BE55-D4D8B10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5A3-ECBB-4C2F-A866-27EC75ED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84D-1B9A-4B01-94C3-5F1EF5EF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3C4-D715-4D62-BFE3-D4686A5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1C7-C310-41F0-829D-C7FDD5C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206-22A7-468D-9593-D0DB1958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5D2-7325-4960-B748-9A96D3F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F44-0A34-4A65-98F7-C3DF5AF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2D5-BDA2-465F-A615-3F3C4E7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A3B-0EF9-4DB6-9923-BB9D3B27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063-2969-4C3D-9DED-24C5D06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56A-9DCA-4A96-B9D4-15049FAFB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3 de marz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osito # 5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el sur de Esp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rar DVD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ick Steves’: Spa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“Sevilla &amp; Andaluc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ke active not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area # 5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a short paragraph IN SPANISHabout which of the places we saw in the DVD you liked best and why. REMEMBER TO USE THE PRETE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2:45Z</dcterms:created>
  <dc:creator>Helen Zumaeta</dc:creator>
  <dc:description/>
  <dc:language>en-US</dc:language>
  <cp:lastModifiedBy>Helen Zumaeta</cp:lastModifiedBy>
  <dcterms:modified xsi:type="dcterms:W3CDTF">2012-03-23T15:40:23Z</dcterms:modified>
  <cp:revision>2</cp:revision>
  <dc:subject/>
  <dc:title>Me llamo __________ Clase 7IM La fecha es el 23 de marzo del 2012</dc:title>
</cp:coreProperties>
</file>